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8CF0-C5F2-4CD9-8EEA-A79E5180B11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B5A4-9699-4CFD-9214-C1AC0C49C547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67AC-96C8-49D0-A4F6-07FA4DBBB0CA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8BA6-E8A6-429F-8A96-D10C3F55A3B3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28C8-DD60-458D-A361-F12EB0DA57EA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4A70-65F1-4B87-B6F2-3E547DB17F9F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CD50-06AC-4F04-BE22-55E699E44959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D885-2C54-4368-B361-8ED195CF35D4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785B-82B9-45DD-8FDB-B6B73B1121A1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E526-8B5B-415A-9F1E-BEA770E57259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2D00-3AD3-47B3-AA35-16CBCBC9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9A36-545E-460F-8584-DCE680EF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3BF9-848B-4237-93A8-50212395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F78-D899-4A37-B151-CC8ACD66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872-5741-45FA-88BA-FBD96155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4E4-1115-4DD9-B4BC-CB346E10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BDB-0BD5-4E18-B942-4284C8CC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80CD-1011-483F-BF1E-15AE7E62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1AD1-9778-48A8-881C-65DC2F6F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575-4175-4BD8-BEC7-9844F5C4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96E9-939C-4457-AF04-005631C4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3539-C053-45D9-9A1E-82C1EDD1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D2DA-AF6E-4724-AB56-B87FE4F8D55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onnaemadre.files.wordpress.com/2008/05/pesi_misure.jpg&amp;imgrefurl=http://donnaemadre.wordpress.com/2008/05/27/due-pesi-due-misure-ovvero-i-pregiudizi-sui-pregiudizi/&amp;usg=__G0fiKE5pZ0JYVk3Yb88YdnAdUyE=&amp;h=376&amp;w=300&amp;sz=11&amp;hl=it&amp;start=3&amp;sig2=aky263Pq8Wefer6qqURP0A&amp;um=1&amp;tbnid=rilEs2VuQ0bNsM:&amp;tbnh=122&amp;tbnw=97&amp;ei=xkprScbmJt64twfCm9S5Bw&amp;prev=/images%3Fq%3Dpesi%26um%3D1%26hl%3Dit%26rls%3Dcom.microsoft:en-US%26rlz%3D1I7GGLD_it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tangolo arrotondato 8"/>
          <p:cNvSpPr/>
          <p:nvPr/>
        </p:nvSpPr>
        <p:spPr>
          <a:xfrm>
            <a:off x="5148360" y="2928960"/>
            <a:ext cx="3852720" cy="3500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85840" y="1332000"/>
            <a:ext cx="867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Le apparecchiature, gli utensili, il corredo di vetreria e la strumentazione, oltre quello 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Tahoma"/>
              </a:rPr>
              <a:t>minim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previsto dalla Tabella n. 6 della F.U., devono essere 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Tahoma"/>
              </a:rPr>
              <a:t>ADEGUAT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al numero ed alla natura delle preparazioni abitualmente esegu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ahoma"/>
                <a:ea typeface="Tahoma"/>
              </a:rPr>
              <a:t>PROCEDURE SCRITT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riguar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uli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manuten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ddestrament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 del 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785960" y="546120"/>
            <a:ext cx="54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6600"/>
                </a:solidFill>
                <a:latin typeface="Tahoma"/>
              </a:rPr>
              <a:t>ATTREZZ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8005680" y="4809960"/>
            <a:ext cx="800280" cy="133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214960" y="3500280"/>
            <a:ext cx="1576440" cy="262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7291440" y="3862440"/>
            <a:ext cx="247680" cy="2209680"/>
          </a:xfrm>
          <a:prstGeom prst="rect">
            <a:avLst/>
          </a:prstGeom>
          <a:ln w="0">
            <a:noFill/>
          </a:ln>
        </p:spPr>
      </p:pic>
      <p:sp>
        <p:nvSpPr>
          <p:cNvPr id="54" name="Freccia bidirezionale orizzontale 6"/>
          <p:cNvSpPr/>
          <p:nvPr/>
        </p:nvSpPr>
        <p:spPr>
          <a:xfrm>
            <a:off x="6719760" y="5286240"/>
            <a:ext cx="1357560" cy="42876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42920" y="199800"/>
            <a:ext cx="8858160" cy="63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TTREZZ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TIPO DI APPARECCHIO DESCRI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e apparecchiature, gli utensili, il corredo di vetreria e la strumentazione devono essere adeguati al numero ed alla natura delle preparazioni abitualmente esegu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reme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’apparecchio descritto nella presente scheda è stato scelto nel rispetto dei seguenti crite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soddisfa i requisiti richiesti dalla normativa vigente sulla sicurezz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garantisce la qualità dei preparat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è facilmente lavabil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è facilmente smontabil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è stato costruito con materiali inerti,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tali da non alterare le sostanze con cui viene a contatto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urante il suo funzionamen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non contamina le sostanze stesse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 prodotti, quali ad esempio i lubrificanti, necessari per il suo funzion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icezione e conval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 momento della ricezione, o comunque prima del primo utilizzo dell’apparecchio, sono stati verificati i seguenti punt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  <a:ea typeface="Times New Roman"/>
              </a:rPr>
              <a:t>corrispondenza tra quanto ordinato e quanto pervenu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  <a:ea typeface="Times New Roman"/>
              </a:rPr>
              <a:t>presenza degli accessori e del manuale d’us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  <a:ea typeface="Times New Roman"/>
              </a:rPr>
              <a:t>corretta installazione dell’apparecchi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ivamente viene effettuato un 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  <a:ea typeface="Times New Roman"/>
              </a:rPr>
              <a:t>collaudo preliminar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escrizione del collaudo effettu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9440" y="1464840"/>
            <a:ext cx="8891640" cy="3014280"/>
          </a:xfrm>
          <a:prstGeom prst="rect">
            <a:avLst/>
          </a:prstGeom>
          <a:solidFill>
            <a:srgbClr val="daedef"/>
          </a:solidFill>
          <a:ln w="381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H- ME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zione del collaudo effettu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- Il pH-metro, una volta installato, è stato collegato alla rete elettrica e si è verificato, accendendolo, che l’apparecchio fosse sotto tensione (spie tutte acces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- Controllare il corretto funzionamento dello strumento verificando che il pH rilevato dallo strumento stesso corrisponda al pH dichiarato per tre soluzioni tampone certificate di diverso 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(ad esempio: pH soluzione tampone a = 2, pH soluzione tampone b = 6, pH soluzione tampone c =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ccia in su 3"/>
          <p:cNvSpPr/>
          <p:nvPr/>
        </p:nvSpPr>
        <p:spPr>
          <a:xfrm>
            <a:off x="5572080" y="4286160"/>
            <a:ext cx="357120" cy="1643040"/>
          </a:xfrm>
          <a:prstGeom prst="upArrow">
            <a:avLst>
              <a:gd name="adj1" fmla="val 50000"/>
              <a:gd name="adj2" fmla="val 50012"/>
            </a:avLst>
          </a:prstGeom>
          <a:solidFill>
            <a:srgbClr val="bbe0e3"/>
          </a:solidFill>
          <a:ln w="255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e 4"/>
          <p:cNvSpPr/>
          <p:nvPr/>
        </p:nvSpPr>
        <p:spPr>
          <a:xfrm>
            <a:off x="3924360" y="5950080"/>
            <a:ext cx="2519280" cy="35856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214200" y="272160"/>
            <a:ext cx="8572680" cy="61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Utiliz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’apparecchio 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viene utilizzato esclusivamente seguendo quanto descritto nel manuale d’uso e per gli scopi previsti dal costruttor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la specifica procedura relativa ad ogni apparecchiatura descritta dovrà essere allegato il corrispondente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manuale d’us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all. 1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 ogni singola procedur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’apparecchio viene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controllato visivamente prima di ogni utilizz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Periodicamente vengono effettuati controll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sulla rispondenza di quanto previsto dal manuale d’uso e dalla normativa vigente. I controlli periodici sono riportati sulla scheda allegata (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all. 2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), con indicazione della data e della firma di chi ha effettuato l’intervento.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e non indicato sul manuale d’uso, descrivere il tipo di controllo o di calibrazione che viene effettu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Manuten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ltre alle normali operazioni di pulizia da effettuarsi all’inizio ed alla fine di ogni preparazione in cui viene utilizzato, l’apparecchio è sottoposto ad una manutenzione periodica secondo le modalità descritte nel manuale d’uso. Qualora se ne presenti la necessità, l’apparecchio è sottoposto ad una pulizia o manutenzione straordinaria. Gli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interventi di manutenzione periodica e quelli di pulizia o manutenzione straordinaria sono riportati sulla scheda allegata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all. 3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), con indicazione della data e della firma di chi ha effettuato l’intervento.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e non indicato sul manuale d’uso, descrivere il tipo di manutenzione e pulizia effettuate con cadenza period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Tutta la documentazione inerente l’apparecchio è conservata in archivio per il tempo indicato nella procedura “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viazione e conservazione della documentazion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ttangolo 7"/>
          <p:cNvSpPr/>
          <p:nvPr/>
        </p:nvSpPr>
        <p:spPr>
          <a:xfrm>
            <a:off x="71280" y="3643200"/>
            <a:ext cx="8929800" cy="307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ttangolo 6"/>
          <p:cNvSpPr/>
          <p:nvPr/>
        </p:nvSpPr>
        <p:spPr>
          <a:xfrm>
            <a:off x="71280" y="71280"/>
            <a:ext cx="892980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1785960"/>
          <a:ext cx="6095880" cy="14936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R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71280" y="79920"/>
            <a:ext cx="88585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llegat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(Controlli periodici, previsti dal manuale d’uso o ritenuti necessari dal farmacista, eseguiti al fine di verificare il corretto funzionamento/calibrazione dell’apparecchiatu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pparecchi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zione dei controlli da eseguire</a:t>
            </a:r>
            <a:r>
              <a:rPr b="1" i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71280" y="3907440"/>
            <a:ext cx="8929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llegat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(Operazioni di manutenzione periodica, manutenzione straordinaria, pulizia straordinar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N.B. le operazioni quotidiane di pulizia rientrano nella procedura relativa a “Pulizia e manutenzione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42920" y="4863960"/>
          <a:ext cx="8485200" cy="1494000"/>
        </p:xfrm>
        <a:graphic>
          <a:graphicData uri="http://schemas.openxmlformats.org/drawingml/2006/table">
            <a:tbl>
              <a:tblPr/>
              <a:tblGrid>
                <a:gridCol w="2151000"/>
                <a:gridCol w="3286080"/>
                <a:gridCol w="3048120"/>
              </a:tblGrid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IPO DI INTERVENTO EFFETTU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R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ttangolo 6"/>
          <p:cNvSpPr/>
          <p:nvPr/>
        </p:nvSpPr>
        <p:spPr>
          <a:xfrm>
            <a:off x="71280" y="71280"/>
            <a:ext cx="8929800" cy="665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71280" y="83160"/>
            <a:ext cx="885852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APPARECHI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llegat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(Controlli periodici, previsti dal manuale d’uso o ritenuti necessari dal farmacista, eseguiti al fine di verificare il corretto funzionamento/calibrazione dell’apparecchiatu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pparecchio: AGITATORE MAGNETICO CON PIASTRA RISCALDANTE MARCA 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zione dei controlli da eseguire</a:t>
            </a:r>
            <a:r>
              <a:rPr b="1" i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zionare sull’agitatore una beuta contenente un idoneo volume di acqua in cui sia stato inserito un magnete di dimensioni opportune, dunque avviare l’agitazione per mezzo dell’apposito pulsante e verificare il corretto funzionamento dello strumento a diverse velocità di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  <a:ea typeface="Times New Roman"/>
              </a:rPr>
              <a:t>rot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del magne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ttivare il riscaldamento e verificare tramite un termometro che la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  <a:ea typeface="Times New Roman"/>
              </a:rPr>
              <a:t>temperatur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raggiunta dall’acqua inserita nella beuta corrisponda a quella dichiarata dallo strum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85920" y="2643120"/>
          <a:ext cx="6095880" cy="1494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R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7-01-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285920" y="5000760"/>
          <a:ext cx="6095880" cy="14936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R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7-01-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ttangolo 7"/>
          <p:cNvSpPr/>
          <p:nvPr/>
        </p:nvSpPr>
        <p:spPr>
          <a:xfrm>
            <a:off x="71280" y="285840"/>
            <a:ext cx="8929800" cy="528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1280" y="572760"/>
            <a:ext cx="89298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llegat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(Operazioni di manutenzione periodica, manutenzione straordinaria, pulizia straordinar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N.B. le operazioni quotidiane di pulizia rientrano nella procedura relativa a “Pulizia e manutenzione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) Manutenzione periodica: intervento effettuato come indicato al paragrafo “manutenzione dell’apparecchio” riportato a pag. 10 del manuale d’uso (all.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) Sostituzione del pulsante di accensione per mancato funzion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) Pulizia straordinaria: l’apparecchio è stato smontato, lavato in ogni parte con i detergenti previsti nella procedura “Pulizia e manutenzione” e poi rimonta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N.B. dopo aver rimontato l’apparecchio sono stati eseguiti i controlli previsti dall’allegato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4200" y="1428840"/>
          <a:ext cx="8485200" cy="1493640"/>
        </p:xfrm>
        <a:graphic>
          <a:graphicData uri="http://schemas.openxmlformats.org/drawingml/2006/table">
            <a:tbl>
              <a:tblPr/>
              <a:tblGrid>
                <a:gridCol w="1357560"/>
                <a:gridCol w="4786200"/>
                <a:gridCol w="2341440"/>
              </a:tblGrid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IPO DI INTERVENTO EFFETTU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R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3-01-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tenzione periodica 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5-01-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tenzione straordinaria (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7-01-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izia straordinaria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ttangolo 3"/>
          <p:cNvSpPr/>
          <p:nvPr/>
        </p:nvSpPr>
        <p:spPr>
          <a:xfrm>
            <a:off x="71280" y="87480"/>
            <a:ext cx="8929800" cy="67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ILANCIA ELETTRON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La bilancia, in base a quanto riportato nella tabella 6 di FU XII edizione, è uno degli strumenti che devono essere obbligatoriamente presenti in farmacia. In particolare la Farmacopea vigente prevede la presenza in farmacia di bilance con le seguenti caratteristiche: una bilancia sensibile a 1 mg della portata di almeno 500 g o in alternativa due distinte bilance, l'una sensibile a 1 mg della portata di almeno 50 g e l'altra sensibile a 0,50 g della portata di almeno 2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. Premess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La bilancia rispetta i seguenti crite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oddisfa i requisiti dalla normativa vigente sulla sicurezz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arantisce la qualità dei preparat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è facilmente lavabi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è facilmente smontabi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è stata costruita con materiali inerti, tali da non alterare le sostanze con cui viene a contatto durante il suo funzionament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on contamina le sostanze stesse con prodotti, quali ad esempio i lubrificanti, necessari per il suo funzionam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2. Ricezione e conva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Al momento della ricezione, o comunque prima del primo utilizzo dell’apparecchio, sono stati verificati i seguenti punt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corrispondenza tra quanto ordinato e quanto pervenut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presenza degli accessori e del manuale d’u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tta installazione dell’apparecch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3. Descrizione del collaudo effettu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La bilancia, una volta installata, è stata collegata alla rete elettrica e si è verificato, accendendola, che l’apparecchio fosse sotto tensione (spie tutte acce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Quindi </a:t>
            </a:r>
            <a:r>
              <a:rPr b="1" lang="it-IT" sz="1400" spc="-1" strike="noStrike">
                <a:solidFill>
                  <a:srgbClr val="ff0000"/>
                </a:solidFill>
                <a:latin typeface="Tahoma"/>
                <a:ea typeface="Times New Roman"/>
              </a:rPr>
              <a:t>verificare che la bilancia pesi correttamente e commetta sempre lo stesso errore percentual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, per farlo utilizzare dei pes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184400" y="5357880"/>
          <a:ext cx="6887880" cy="1279440"/>
        </p:xfrm>
        <a:graphic>
          <a:graphicData uri="http://schemas.openxmlformats.org/drawingml/2006/table">
            <a:tbl>
              <a:tblPr/>
              <a:tblGrid>
                <a:gridCol w="2031840"/>
                <a:gridCol w="2824200"/>
                <a:gridCol w="2031840"/>
              </a:tblGrid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mmi del pe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ammi effettivamente pesa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rore percentu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ttangolo 2"/>
          <p:cNvSpPr/>
          <p:nvPr/>
        </p:nvSpPr>
        <p:spPr>
          <a:xfrm>
            <a:off x="36360" y="87480"/>
            <a:ext cx="9036360" cy="670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 Utiliz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L’apparecchio viene utilizzato esclusivamente seguendo quanto descritto nel manuale d’uso allegato alla presente procedura (allegato 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Avvertenze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it-IT" sz="1400" spc="-1" strike="noStrike">
                <a:solidFill>
                  <a:srgbClr val="ff0000"/>
                </a:solidFill>
                <a:latin typeface="Tahoma"/>
                <a:ea typeface="Times New Roman"/>
              </a:rPr>
              <a:t>posizionare la bilancia sul tavolo da lavoro lontano da tutto ciò che trasmette vibrazioni, da eccessive ventilazioni e da fonti di calore o di freddo intens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it-IT" sz="1400" spc="-1" strike="noStrike">
                <a:solidFill>
                  <a:srgbClr val="ff0000"/>
                </a:solidFill>
                <a:latin typeface="Tahoma"/>
                <a:ea typeface="Times New Roman"/>
              </a:rPr>
              <a:t>non pesare mai direttamente sul piatto della bilancia; scegliere il contenitore adatto od eventualmente utilizzare fogli di carta o carta oleata a seconda delle caratteristiche chimico fisiche della sostanza. Eseguire pertanto la tar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7030a0"/>
                </a:solidFill>
                <a:latin typeface="Tahoma"/>
                <a:ea typeface="Times New Roman"/>
              </a:rPr>
              <a:t>effettuare le operazioni di pulizia dell’apparecchio con la bilancia spenta e scollegata dalla rete elettric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5. Control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 di ogni utilizzo controllare ch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ia montata correttam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tutte le sue parti, in particolar modo il piatto siano pulite ed asciut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it-IT" sz="1400" spc="-1" strike="noStrike">
                <a:solidFill>
                  <a:srgbClr val="ff0000"/>
                </a:solidFill>
                <a:latin typeface="Tahoma"/>
                <a:ea typeface="Times New Roman"/>
              </a:rPr>
              <a:t>sia in bol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, se non lo fosse agire sulle viti di regolazione in corrispondenza dei piedi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omunque </a:t>
            </a:r>
            <a:r>
              <a:rPr b="0" lang="it-IT" sz="1400" spc="-1" strike="noStrike">
                <a:solidFill>
                  <a:srgbClr val="7030a0"/>
                </a:solidFill>
                <a:latin typeface="Tahoma"/>
                <a:ea typeface="Times New Roman"/>
              </a:rPr>
              <a:t>ogni sei mesi effettuare la calibratura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in farmacia (</a:t>
            </a:r>
            <a:r>
              <a:rPr b="0" lang="it-IT" sz="1400" spc="-1" strike="noStrike">
                <a:solidFill>
                  <a:srgbClr val="7030a0"/>
                </a:solidFill>
                <a:latin typeface="Tahoma"/>
                <a:ea typeface="Times New Roman"/>
              </a:rPr>
              <a:t>vedi all.2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6. Manuten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L’apparecchio è sottoposto ad operazioni di </a:t>
            </a:r>
            <a:r>
              <a:rPr b="1" lang="it-IT" sz="1400" spc="-1" strike="noStrike">
                <a:solidFill>
                  <a:srgbClr val="ff0000"/>
                </a:solidFill>
                <a:latin typeface="Tahoma"/>
                <a:ea typeface="Times New Roman"/>
              </a:rPr>
              <a:t>pulizia da effettuarsi all’inizio e alla fine di ogni prepar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cui viene utilizzata la bilancia. (Effettuare quanto descritto nel manuale d’us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Qualora si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renda necessaria una pulizia straordinaria, tutte le operazioni effettuate devono essere riportate su un documento da allegare alla presente procedu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Entro sei mesi dalla prima utilizzazione delle bilance, a seguito di riparazioni ed altri interventi che comportino la rimozione dei sigilli metrici o comunque ogni tre anni dall’ultima verifica effettuata attuare la verificazione periodica presso la Camera di Commerci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7. Archiviazione della documen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Tutta la documentazione inerente l’apparecchio relativo a questa procedura (manuali d’uso, eventuali certificati…) è conservata in archivio per il tempo indicato nella procedura “Archiviazione e conservazione della documentazione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8501040" y="1857240"/>
            <a:ext cx="27612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142920" y="1094040"/>
            <a:ext cx="8891640" cy="430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llegat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ALIBRATURA DELLA BILA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(Se la bilancia non discosta più o meno di … mg  dal peso effettivo e se l’errore percentuale è costante allora l’esito sarà positivo se così non fosse l’esito è negativo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ccettazione          sì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Firma di chi ha effettuato la taratura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ttangolo 7"/>
          <p:cNvSpPr/>
          <p:nvPr/>
        </p:nvSpPr>
        <p:spPr>
          <a:xfrm>
            <a:off x="3357720" y="428760"/>
            <a:ext cx="3714480" cy="1357200"/>
          </a:xfrm>
          <a:prstGeom prst="rect">
            <a:avLst/>
          </a:prstGeom>
          <a:solidFill>
            <a:srgbClr val="ffe5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00080" y="2263680"/>
          <a:ext cx="7342200" cy="1279800"/>
        </p:xfrm>
        <a:graphic>
          <a:graphicData uri="http://schemas.openxmlformats.org/drawingml/2006/table">
            <a:tbl>
              <a:tblPr/>
              <a:tblGrid>
                <a:gridCol w="1844640"/>
                <a:gridCol w="3276720"/>
                <a:gridCol w="2220840"/>
              </a:tblGrid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MMI DEL PE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AMMI EFFETTIVAMENTE PESA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RORE PERCENTU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Ovale 3"/>
          <p:cNvSpPr/>
          <p:nvPr/>
        </p:nvSpPr>
        <p:spPr>
          <a:xfrm>
            <a:off x="2214720" y="2214720"/>
            <a:ext cx="6429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4" descr="http://tbn0.google.com/images?q=tbn:rilEs2VuQ0bNsM:http://donnaemadre.files.wordpress.com/2008/05/pesi_misu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920" y="571680"/>
            <a:ext cx="923760" cy="1161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6" descr="http://tbn2.google.com/images?q=tbn:xiNud2ZZ3poRlM:http://www.cichlidpower.it/faidate/sfondopietra/litta.jpg"/>
          <p:cNvPicPr/>
          <p:nvPr/>
        </p:nvPicPr>
        <p:blipFill>
          <a:blip r:embed="rId3"/>
          <a:stretch/>
        </p:blipFill>
        <p:spPr>
          <a:xfrm>
            <a:off x="5643720" y="714240"/>
            <a:ext cx="1180800" cy="885960"/>
          </a:xfrm>
          <a:prstGeom prst="rect">
            <a:avLst/>
          </a:prstGeom>
          <a:ln w="0">
            <a:noFill/>
          </a:ln>
        </p:spPr>
      </p:pic>
      <p:sp>
        <p:nvSpPr>
          <p:cNvPr id="83" name="Freccia bidirezionale orizzontale 6"/>
          <p:cNvSpPr/>
          <p:nvPr/>
        </p:nvSpPr>
        <p:spPr>
          <a:xfrm>
            <a:off x="4643280" y="928800"/>
            <a:ext cx="928800" cy="357120"/>
          </a:xfrm>
          <a:prstGeom prst="leftRightArrow">
            <a:avLst>
              <a:gd name="adj1" fmla="val 50000"/>
              <a:gd name="adj2" fmla="val 50017"/>
            </a:avLst>
          </a:prstGeom>
          <a:solidFill>
            <a:srgbClr val="ffe5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9:54:47Z</dcterms:created>
  <dc:creator>...</dc:creator>
  <dc:description/>
  <dc:language>en-US</dc:language>
  <cp:lastModifiedBy>Francesca</cp:lastModifiedBy>
  <dcterms:modified xsi:type="dcterms:W3CDTF">2013-04-05T16:06:13Z</dcterms:modified>
  <cp:revision>3</cp:revision>
  <dc:subject/>
  <dc:title>Diapositiva 1</dc:title>
</cp:coreProperties>
</file>